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6560" y="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22240"/>
            <a:ext cx="561996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4232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6560" y="884232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63CC-28DA-4D1A-8FD1-B6A410BCE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01280" y="4422240"/>
            <a:ext cx="56199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976560" y="8842320"/>
            <a:ext cx="3044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1EF4-38FC-444A-995D-A8204BEA9287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01280" y="4422240"/>
            <a:ext cx="56199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kaidrės numerio vietos rezervavimo ženklas 3"/>
          <p:cNvSpPr/>
          <p:nvPr/>
        </p:nvSpPr>
        <p:spPr>
          <a:xfrm>
            <a:off x="3976560" y="8842320"/>
            <a:ext cx="3044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9612-8B9F-49A4-871C-74663DDBED18}" type="slidenum">
              <a:rPr b="0" lang="lt-L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1280" y="4422240"/>
            <a:ext cx="56199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kaidrės numerio vietos rezervavimo ženklas 3"/>
          <p:cNvSpPr/>
          <p:nvPr/>
        </p:nvSpPr>
        <p:spPr>
          <a:xfrm>
            <a:off x="3976560" y="8842320"/>
            <a:ext cx="3044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825D-717D-423A-96BD-D78FD67C477C}" type="slidenum">
              <a:rPr b="0" lang="lt-L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6509-9827-4DE0-B2BB-C9CE47F25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ABCF-262D-45FF-A350-91CC6F2F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2E11-0721-45FC-9E9E-93EE72608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76E4-DE90-4C0E-BBB5-5E42E2901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39AD-D007-4BCD-87AD-1B98FD37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4BBE-302D-4BCD-9428-A9CC0F8D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F787-C4D8-4ED7-AADE-ECDBDA2B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CBFD-8CD7-4C76-BF42-032F553D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F8B6-2557-49D8-8BA3-75582DB4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1814-3838-47A6-82C0-4137AC48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AE77-0C0A-4991-B20E-53BFC37F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3008-F318-4CEA-9E4F-ED928A58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3ABA-C95A-4FA1-834F-D56461783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76200" y="2908080"/>
            <a:ext cx="8602200" cy="103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lt-LT" sz="3200" spc="-1" strike="noStrike">
                <a:solidFill>
                  <a:srgbClr val="005426"/>
                </a:solidFill>
                <a:latin typeface="Times New Roman"/>
                <a:ea typeface="Times New Roman"/>
              </a:rPr>
              <a:t>VVG bendradarbiavimo projektų įgyvendinim</a:t>
            </a:r>
            <a:r>
              <a:rPr b="1" i="1" lang="en-US" sz="3200" spc="-1" strike="noStrike">
                <a:solidFill>
                  <a:srgbClr val="005426"/>
                </a:solidFill>
                <a:latin typeface="Times New Roman"/>
                <a:ea typeface="Times New Roman"/>
              </a:rPr>
              <a:t>o situacija</a:t>
            </a:r>
            <a:r>
              <a:rPr b="1" i="1" lang="lt-LT" sz="3200" spc="-1" strike="noStrike">
                <a:solidFill>
                  <a:srgbClr val="005426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al Lietuvos kaimo plėtros 2014–2020 m. programą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324000" y="4941720"/>
            <a:ext cx="8713800" cy="114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Logo Leader V1"/>
          <p:cNvPicPr/>
          <p:nvPr/>
        </p:nvPicPr>
        <p:blipFill>
          <a:blip r:embed="rId1"/>
          <a:stretch/>
        </p:blipFill>
        <p:spPr>
          <a:xfrm>
            <a:off x="3886200" y="1268280"/>
            <a:ext cx="1076400" cy="107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ilonas\Desktop\naujai\pirkimai\logotopas\logo\JPG\Lietuvos LEADER logo RGB 450x600px.jpg"/>
          <p:cNvPicPr/>
          <p:nvPr/>
        </p:nvPicPr>
        <p:blipFill>
          <a:blip r:embed="rId2"/>
          <a:stretch/>
        </p:blipFill>
        <p:spPr>
          <a:xfrm>
            <a:off x="8572680" y="0"/>
            <a:ext cx="571320" cy="765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PF_logo_small.jpg"/>
          <p:cNvPicPr/>
          <p:nvPr/>
        </p:nvPicPr>
        <p:blipFill>
          <a:blip r:embed="rId3"/>
          <a:stretch/>
        </p:blipFill>
        <p:spPr>
          <a:xfrm>
            <a:off x="0" y="6351480"/>
            <a:ext cx="1357200" cy="506520"/>
          </a:xfrm>
          <a:prstGeom prst="rect">
            <a:avLst/>
          </a:prstGeom>
          <a:ln w="0">
            <a:noFill/>
          </a:ln>
        </p:spPr>
      </p:pic>
      <p:sp>
        <p:nvSpPr>
          <p:cNvPr id="53" name="Stačiakampis 1"/>
          <p:cNvSpPr/>
          <p:nvPr/>
        </p:nvSpPr>
        <p:spPr>
          <a:xfrm>
            <a:off x="4149720" y="547704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324000" y="1627200"/>
            <a:ext cx="856908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gyvendinant </a:t>
            </a:r>
            <a:r>
              <a:rPr b="1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regl. 1305/2013 44</a:t>
            </a:r>
            <a:r>
              <a:rPr b="0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raipsnio </a:t>
            </a:r>
            <a:r>
              <a:rPr b="1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. reikalavimą paraiškos renkamos taikant </a:t>
            </a:r>
            <a:r>
              <a:rPr b="0" lang="lt-LT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uolatinę paraiškų rinkimo procedūrą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 m.</a:t>
            </a:r>
            <a:r>
              <a:rPr b="0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iškos renkamos </a:t>
            </a:r>
            <a:r>
              <a:rPr b="1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kartus </a:t>
            </a:r>
            <a:r>
              <a:rPr b="0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17-12-01 įsak. Nr. 3D-770)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kaidrės numerio vietos rezervavimo ženklas 3"/>
          <p:cNvSpPr/>
          <p:nvPr/>
        </p:nvSpPr>
        <p:spPr>
          <a:xfrm>
            <a:off x="694044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5BE9-9CE6-4BB5-AD15-388744784F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1547640" y="549360"/>
            <a:ext cx="70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endradarbiavimo projektų paraiškų rink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55640" y="3429000"/>
          <a:ext cx="6264360" cy="2570040"/>
        </p:xfrm>
        <a:graphic>
          <a:graphicData uri="http://schemas.openxmlformats.org/drawingml/2006/table">
            <a:tbl>
              <a:tblPr/>
              <a:tblGrid>
                <a:gridCol w="2554200"/>
                <a:gridCol w="1838520"/>
                <a:gridCol w="1871640"/>
              </a:tblGrid>
              <a:tr h="253800">
                <a:tc rowSpan="4"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engiamoji parama (tarptautinių projektų inicijavima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2-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3-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4-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5-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6-0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7-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9-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10-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rowSpan="2"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itorinio bendradarbiavimo projekta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4-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5-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9-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10-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rowSpan="4"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ptautinio bendradarbiavimo projekta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2-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3-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4-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5-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6-0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7-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9-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10-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9601-74C2-4627-ACC2-15736513B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ntraštė 1"/>
          <p:cNvSpPr/>
          <p:nvPr/>
        </p:nvSpPr>
        <p:spPr>
          <a:xfrm>
            <a:off x="919080" y="54936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grindiniai pakeitimai</a:t>
            </a:r>
            <a:r>
              <a:rPr b="1" lang="lt-L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1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291960" y="901800"/>
            <a:ext cx="885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539640" y="1020600"/>
            <a:ext cx="7704360" cy="59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. 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ustatytas neremiamų veiklų sąraš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emiami projektai, susiję s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oholinių gėrimų ir tabako gaminių propagavimu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nklais ir šaudmenim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artinių lošimų ir lažybų organizavim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siniu tarpininkavimu, pagalbine finansinio tarpininkavimo veikl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udimo ir pensijų kaupimo operacijom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kilnojamojo turto operacijom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isinės ir konsultavimo veiklos organizavim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žiokle, gaudymu spąstais, medžioklės patirties sklaida ir su tuo susijusia veikl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 paramos lėšas įgyto ir(arba) sutvarkyto kito turto nuo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ai, panašūs savo pobūdžiu į anksčiau pareiškėjo įgyvendintus bendardarbiavimo  projekt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I. 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tsisakoma tam tikrų dokumentų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uriuos galima patikrinti vie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š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osiuose registruose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halterinės apskaitos tvarkymo fakt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ybų leidim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baigtos statybos, kai duomenis reikia teikti IS ,,infostatyba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 tikrinama, ar VVG neturi turi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siskolinimų Agentūrai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MI, SODRAI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B4A8-6C1C-4857-BB09-227CC32E0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ntraštė 1"/>
          <p:cNvSpPr/>
          <p:nvPr/>
        </p:nvSpPr>
        <p:spPr>
          <a:xfrm>
            <a:off x="826920" y="68904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grindiniai pakeitimai</a:t>
            </a:r>
            <a:r>
              <a:rPr b="1" lang="lt-L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2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291960" y="901800"/>
            <a:ext cx="885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539640" y="1341360"/>
            <a:ext cx="7704360" cy="32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V. 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eičiasi am tikros tinkamų išlaidų formuluotės, jų ribos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ėl suvienodinimo su kitomis KPP priemonėmi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o koordinavimo išlaidos. Šių išlaidų dalis negali būti didesnė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p 5 proc. kitų tinkamų finansuoti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jekto išlaidų vertė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osios išlaidos. Finansuojama bendrųjų išlaidų dalis negali būti didesnė kaip 10 proc.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tų tinkamų finansuoti projekto išlaidų vertės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et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 daugiau kaip 1 800 Eur.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o atveju, kai projekte numatyti statybos ar infrastruktūros įrengimo darbai, finansuojama bendrųjų išlaidų suma gali būt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 projektas yra susijęs su investicijomis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 žmogiškąjį kapitalą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ujų prekių įsigijimas galimas tik tais atvejais, kai šios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kės sunaudojamos projekto įgyvendinimo me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AD07-640C-4E7C-81F9-F7884663F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ntraštė 1"/>
          <p:cNvSpPr/>
          <p:nvPr/>
        </p:nvSpPr>
        <p:spPr>
          <a:xfrm>
            <a:off x="826920" y="68904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grindiniai pakeitimai</a:t>
            </a:r>
            <a:r>
              <a:rPr b="1" lang="lt-L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3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291960" y="901800"/>
            <a:ext cx="885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539640" y="1341360"/>
            <a:ext cx="7704360" cy="31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. 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eičiasi techninės paramos vertinimo termina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Vertinimas turi būti baigt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per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30 d. d.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nuo paramos paraiškų priėmimo termino pabaigos, jei paklausimai nesiunčiam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per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45 d. d.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jei siunčiam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I. 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aujovės paraiškose (</a:t>
            </a:r>
            <a:r>
              <a:rPr b="1" i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ildyti aktualią versiją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!)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iškose bus prašoma nurodyti informaciją apie pasirinktą paramos lėšų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mokėjimo būdą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 planuojamų teikti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ičių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ižvelgiant į EK prašomus teikti duomenis reikės pateikti informaciją apie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o tematiką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aktinius žodžius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9F52-41C6-4FA3-BBB0-7A8BA3CB0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ntraštė 1"/>
          <p:cNvSpPr/>
          <p:nvPr/>
        </p:nvSpPr>
        <p:spPr>
          <a:xfrm>
            <a:off x="82692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raiškų rinkimo rezulta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7-2018 I ket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291960" y="901800"/>
            <a:ext cx="885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Diagrama 5"/>
          <p:cNvGraphicFramePr/>
          <p:nvPr/>
        </p:nvGraphicFramePr>
        <p:xfrm>
          <a:off x="776160" y="1362240"/>
          <a:ext cx="7518600" cy="414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Diagrama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60" y="1362240"/>
                    <a:ext cx="751860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CC9F-74C1-4B35-9329-4D671C1E0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ntraštė 1"/>
          <p:cNvSpPr/>
          <p:nvPr/>
        </p:nvSpPr>
        <p:spPr>
          <a:xfrm>
            <a:off x="604800" y="39672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chninės paramos patvirtinti projekta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7-2018 I ket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291960" y="901800"/>
            <a:ext cx="885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68360" y="1700280"/>
          <a:ext cx="8218440" cy="3841560"/>
        </p:xfrm>
        <a:graphic>
          <a:graphicData uri="http://schemas.openxmlformats.org/drawingml/2006/table">
            <a:tbl>
              <a:tblPr/>
              <a:tblGrid>
                <a:gridCol w="576360"/>
                <a:gridCol w="1538280"/>
                <a:gridCol w="1846080"/>
                <a:gridCol w="1517760"/>
                <a:gridCol w="1369800"/>
                <a:gridCol w="137016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l. N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eiškėj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jekto pavadini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nerių sk., šal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irta paramos suma, 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rinkta bal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iaulių r. VV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unimas – aktyvus kaimo plėtros dalyv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Raseinių VVG; Vokietijos VV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738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skininkų VV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ndradarbiavimo paieškos – Lietuva-Vokiet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Alytaus r. VVG; Šventosios ŽRVVG; Vokietijos VV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E1CC-AA94-45F8-A46C-D85EEF4D4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ntraštė 1"/>
          <p:cNvSpPr/>
          <p:nvPr/>
        </p:nvSpPr>
        <p:spPr>
          <a:xfrm>
            <a:off x="604800" y="39672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arptautinio bendradarbiavimo patvirtinti projekta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7-2018 I ket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291960" y="901800"/>
            <a:ext cx="885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91960" y="1125360"/>
          <a:ext cx="8744040" cy="5570640"/>
        </p:xfrm>
        <a:graphic>
          <a:graphicData uri="http://schemas.openxmlformats.org/drawingml/2006/table">
            <a:tbl>
              <a:tblPr/>
              <a:tblGrid>
                <a:gridCol w="568440"/>
                <a:gridCol w="1279440"/>
                <a:gridCol w="1422360"/>
                <a:gridCol w="1919520"/>
                <a:gridCol w="1279440"/>
                <a:gridCol w="995400"/>
                <a:gridCol w="1279440"/>
              </a:tblGrid>
              <a:tr h="822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l. N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eiškė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jekto pavadini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nerių sk., šal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irta paramos suma,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rinkta bal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os sutar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1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VG „Nemunas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uni vietos lyderia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PL VV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ordinuoja P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226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2-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lšių r. VV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kademija ,,Nuotykių LEADER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Šiaurės vakarų Lietuvos VVG, Plungės r. VVG; 2 SE VV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ordinuoja </a:t>
                      </a: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010,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4-03 potvarkis Nr. 4D-33(1.8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309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gnalinos r. VV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yb</a:t>
                      </a: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ų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kel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Varėnos krašto VVG, 4 LV, 2 FI, 1 I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ordinuoja F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041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4-03 potvarkis Nr. 4D-33(1.8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514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uno r. VV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ie skre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Garliavos miesto VVG, PL VVG), koordinuoja P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 957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1-09 Nr.  4D-6(1.8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7238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7"/>
          <p:cNvSpPr/>
          <p:nvPr/>
        </p:nvSpPr>
        <p:spPr>
          <a:xfrm>
            <a:off x="7924680" y="6381720"/>
            <a:ext cx="121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KPF_logo_small.jpg"/>
          <p:cNvPicPr/>
          <p:nvPr/>
        </p:nvPicPr>
        <p:blipFill>
          <a:blip r:embed="rId1"/>
          <a:stretch/>
        </p:blipFill>
        <p:spPr>
          <a:xfrm>
            <a:off x="3059280" y="2678040"/>
            <a:ext cx="2808000" cy="1096920"/>
          </a:xfrm>
          <a:prstGeom prst="rect">
            <a:avLst/>
          </a:prstGeom>
          <a:ln w="0">
            <a:noFill/>
          </a:ln>
        </p:spPr>
      </p:pic>
      <p:sp>
        <p:nvSpPr>
          <p:cNvPr id="86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8AD0-02D2-42C5-9492-21171CC529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3059280" y="1989000"/>
            <a:ext cx="277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čiū už dėmesį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7T14:13:43Z</dcterms:created>
  <dc:creator>*</dc:creator>
  <dc:description/>
  <dc:language>en-US</dc:language>
  <cp:lastModifiedBy>Jolanta Vaičiūnienė</cp:lastModifiedBy>
  <cp:lastPrinted>2018-04-11T09:58:16Z</cp:lastPrinted>
  <dcterms:modified xsi:type="dcterms:W3CDTF">2018-04-12T06:19:19Z</dcterms:modified>
  <cp:revision>1526</cp:revision>
  <dc:subject/>
  <dc:title>Slide 1</dc:title>
</cp:coreProperties>
</file>