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FA65-97A1-438B-AA3D-D82050F9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907F-31AB-48A6-985B-AB248D7FCBC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83AC-6AEE-422A-AA63-2E38C75C6611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05FF-785C-4B6B-A522-7FA2C79C2336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844-6486-4097-A166-4C256D20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650-E9A4-4A8C-8043-E707DAC7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134-7D18-4BA1-A099-F9324DBB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92A-A177-4A9C-AD7F-3D8E0CC9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2F1-2262-400F-B449-46763F09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8EE-2011-4AAE-9340-4B85B2D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8E1-E0AD-4694-BC53-3B7B5409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1BB-3CA2-424F-9D49-0AE5F019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D5A-5ACF-4479-8D6B-6E212964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7A2-A6A5-46EB-9F9D-700CFEA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BA8-4E81-4916-B0EE-66BBFAE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B69-B8DB-4948-AF39-85630A5B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6A23-78F4-4547-8799-79502F1B9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6200" y="2908080"/>
            <a:ext cx="86022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VVG bendradarbiavimo projektų įgyvendinim</a:t>
            </a:r>
            <a:r>
              <a:rPr b="1" i="1" lang="en-US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o situacija</a:t>
            </a: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 Lietuvos kaimo plėtros 2014–2020 m. programą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4000" y="4941720"/>
            <a:ext cx="8713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Logo Leader V1"/>
          <p:cNvPicPr/>
          <p:nvPr/>
        </p:nvPicPr>
        <p:blipFill>
          <a:blip r:embed="rId1"/>
          <a:stretch/>
        </p:blipFill>
        <p:spPr>
          <a:xfrm>
            <a:off x="3886200" y="1268280"/>
            <a:ext cx="107640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ilonas\Desktop\naujai\pirkimai\logotopas\logo\JPG\Lietuvos LEADER logo RGB 450x600px.jpg"/>
          <p:cNvPicPr/>
          <p:nvPr/>
        </p:nvPicPr>
        <p:blipFill>
          <a:blip r:embed="rId2"/>
          <a:stretch/>
        </p:blipFill>
        <p:spPr>
          <a:xfrm>
            <a:off x="8572680" y="0"/>
            <a:ext cx="5713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PF_logo_small.jpg"/>
          <p:cNvPicPr/>
          <p:nvPr/>
        </p:nvPicPr>
        <p:blipFill>
          <a:blip r:embed="rId3"/>
          <a:stretch/>
        </p:blipFill>
        <p:spPr>
          <a:xfrm>
            <a:off x="0" y="6351480"/>
            <a:ext cx="1357200" cy="506520"/>
          </a:xfrm>
          <a:prstGeom prst="rect">
            <a:avLst/>
          </a:prstGeom>
          <a:ln w="0">
            <a:noFill/>
          </a:ln>
        </p:spPr>
      </p:pic>
      <p:sp>
        <p:nvSpPr>
          <p:cNvPr id="53" name="Stačiakampis 1"/>
          <p:cNvSpPr/>
          <p:nvPr/>
        </p:nvSpPr>
        <p:spPr>
          <a:xfrm>
            <a:off x="4149720" y="54770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324000" y="1627200"/>
            <a:ext cx="8569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yvendinant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gl. 1305/2013 44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aipsnio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 reikalavimą paraiškos renkamos taikant </a:t>
            </a:r>
            <a:r>
              <a:rPr b="0" lang="lt-LT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olatinę paraiškų rinkimo procedūrą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m.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iškos renkamos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kartus 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-12-01 įsak. Nr. 3D-770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kaidrės numerio vietos rezervavimo ženklas 3"/>
          <p:cNvSpPr/>
          <p:nvPr/>
        </p:nvSpPr>
        <p:spPr>
          <a:xfrm>
            <a:off x="694044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0B67-2AFB-47DF-971C-85B938FC8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47640" y="549360"/>
            <a:ext cx="70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ndradarbiavimo projektų paraiškų 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55640" y="3429000"/>
          <a:ext cx="6264360" cy="2570040"/>
        </p:xfrm>
        <a:graphic>
          <a:graphicData uri="http://schemas.openxmlformats.org/drawingml/2006/table">
            <a:tbl>
              <a:tblPr/>
              <a:tblGrid>
                <a:gridCol w="2554200"/>
                <a:gridCol w="1838520"/>
                <a:gridCol w="1871640"/>
              </a:tblGrid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giamoji parama (tarptautinių projektų inicijavima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2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itor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ptaut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EDB5-6743-4B83-92D0-19786BEBE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ntraštė 1"/>
          <p:cNvSpPr/>
          <p:nvPr/>
        </p:nvSpPr>
        <p:spPr>
          <a:xfrm>
            <a:off x="9190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539640" y="1020600"/>
            <a:ext cx="770436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statytas neremiamų veiklų sąraš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miami projektai, susiję s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nių gėrimų ir tabako gaminių propagavim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klais ir šaudmeni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rtinių lošimų ir lažybų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iniu tarpininkavimu, pagalbine finansinio tarpininkavimo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dimo ir pensijų kaupim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ilnojamojo turt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inės ir konsultavimo veiklos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kle, gaudymu spąstais, medžioklės patirties sklaida ir su tuo susijusia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paramos lėšas įgyto ir(arba) sutvarkyto kito turto nu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i, panašūs savo pobūdžiu į anksčiau pareiškėjo įgyvendintus bendardarbiavimo  projek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sisakoma tam tikrų dokumentų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riuos galima patikrinti vie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osiuose registruose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halterinės apskaitos tvarkymo fak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ybų leidi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baigtos statybos, kai duomenis reikia teikti IS ,,infostatyba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ikrinama, ar VVG neturi turi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skolinimų Agentūrai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MI, SODRA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02F7-B247-4D88-A4F3-60B952B3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39640" y="1341360"/>
            <a:ext cx="7704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am tikros tinkamų išlaidų formuluotės, jų ribos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ėl suvienodinimo su kitomis KPP priemonėmi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koordinavimo išlaidos. Šių išlaidų dalis negali būti didesnė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5 proc. kitų tinkamų finansuot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kto išlaidų vertė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osios išlaidos. Finansuojama bendrųjų išlaidų dalis negali būti didesnė kaip 10 proc.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ų tinkamų finansuoti projekto išlaidų vertės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daugiau kaip 1 800 Eur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 atveju, kai projekte numatyti statybos ar infrastruktūros įrengimo darbai, finansuojama bendrųjų išlaidų suma gali bū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projektas yra susijęs su investicijomi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žmogiškąjį kapital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jų prekių įsigijimas galimas tik tais atvejais, kai šio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ės sunaudojamos projekto įgyvendinimo 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1FD2-5E45-41DE-874C-91AD3F751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3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539640" y="1341360"/>
            <a:ext cx="770436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techninės paramos vertinimo termina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nimas turi būti baig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0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uo paramos paraiškų priėmimo termino pabaigos, jei paklausimai nesiunči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5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ei siunčia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ujovės paraiškose (</a:t>
            </a:r>
            <a:r>
              <a:rPr b="1" i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dyti aktualią versiją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!)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iškose bus prašoma nurodyti informaciją apie pasirinktą paramos lėšų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okėjimo būdą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planuojamų teikt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žvelgiant į EK prašomus teikti duomenis reikės pateikti informaciją apie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tematik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aktinius žodžiu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CA75-69A6-49D2-B846-2D0F7EBB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ntraštė 1"/>
          <p:cNvSpPr/>
          <p:nvPr/>
        </p:nvSpPr>
        <p:spPr>
          <a:xfrm>
            <a:off x="82692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iškų rinkimo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Diagrama 5"/>
          <p:cNvGraphicFramePr/>
          <p:nvPr/>
        </p:nvGraphicFramePr>
        <p:xfrm>
          <a:off x="776160" y="1362240"/>
          <a:ext cx="75186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Diagrama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62240"/>
                    <a:ext cx="75186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4202-7238-4604-B997-F1FDA6D4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inės paramos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700280"/>
          <a:ext cx="8218440" cy="3841560"/>
        </p:xfrm>
        <a:graphic>
          <a:graphicData uri="http://schemas.openxmlformats.org/drawingml/2006/table">
            <a:tbl>
              <a:tblPr/>
              <a:tblGrid>
                <a:gridCol w="576360"/>
                <a:gridCol w="1538280"/>
                <a:gridCol w="1846080"/>
                <a:gridCol w="1517760"/>
                <a:gridCol w="1369800"/>
                <a:gridCol w="1370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aulių r.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mas – aktyvus kaimo plėtros daly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aseinių 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skininkų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adarbiavimo paieškos – Lietuva-Vokiet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lytaus r. VVG; Šventosios ŽR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BEFF-DC36-458C-A9B7-45CA889F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rptautinio bendradarbiavimo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1960" y="1125360"/>
          <a:ext cx="8744040" cy="5570640"/>
        </p:xfrm>
        <a:graphic>
          <a:graphicData uri="http://schemas.openxmlformats.org/drawingml/2006/table">
            <a:tbl>
              <a:tblPr/>
              <a:tblGrid>
                <a:gridCol w="568440"/>
                <a:gridCol w="1279440"/>
                <a:gridCol w="1422360"/>
                <a:gridCol w="1919520"/>
                <a:gridCol w="1279440"/>
                <a:gridCol w="995400"/>
                <a:gridCol w="127944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os sutar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VG „Nemunas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 vietos lyderi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L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226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šių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,,Nuotykių LEADER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Šiaurės vakarų Lietuvos VVG, Plungės r. VVG; 2 SE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010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nalinos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yb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el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arėnos krašto VVG, 4 LV, 2 FI, 1 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41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uno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e skr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arliavos miesto VVG, PL VVG), 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7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1-09 Nr.  4D-6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7924680" y="6381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PF_logo_small.jpg"/>
          <p:cNvPicPr/>
          <p:nvPr/>
        </p:nvPicPr>
        <p:blipFill>
          <a:blip r:embed="rId1"/>
          <a:stretch/>
        </p:blipFill>
        <p:spPr>
          <a:xfrm>
            <a:off x="3059280" y="2678040"/>
            <a:ext cx="280800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3D16-4957-4361-8C13-C03B1970A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059280" y="198900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čiū už dėmes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4:13:43Z</dcterms:created>
  <dc:creator>*</dc:creator>
  <dc:description/>
  <dc:language>en-US</dc:language>
  <cp:lastModifiedBy>Jolanta Vaičiūnienė</cp:lastModifiedBy>
  <cp:lastPrinted>2018-04-11T09:58:16Z</cp:lastPrinted>
  <dcterms:modified xsi:type="dcterms:W3CDTF">2018-04-12T06:19:19Z</dcterms:modified>
  <cp:revision>1526</cp:revision>
  <dc:subject/>
  <dc:title>Slide 1</dc:title>
</cp:coreProperties>
</file>